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967-71BE-4991-95C4-BB4B8F9F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476-4C32-4146-8C89-EEE91019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09F-AAD5-4113-8504-46F980FF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9E8-D735-46CF-B3A3-48E0654A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1F9-C8C8-4BAC-A6A5-DB94D452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6EB-6F98-4E99-95CF-E997573F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E77-0511-403C-BB50-3316647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918-1CA1-4274-B1CB-06DC53C4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980-E7CE-42EB-BCB8-915EEC31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6AD-B9F0-47DB-B181-95E93D9E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ECB-3C2D-45B9-892E-1ABB78B9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36F-7139-4B53-AB6F-120A502E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02D3-4D05-42FF-A8DF-FD8F2A818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he Lak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igned the Fort Laramie Treaty of 1851, Intended to insure peace in the pla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n the Lakota has been a long lasting tri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students at Todd County High School in South Dakota the have Native American backgrounds or are part of a still standing tri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tle Big H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 Army was going through the American west trying to find as many Native tribes and move them onto the reserv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ief Sitting Bull would not let the military force take them from there land and they fou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battle 267 American men lost there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utenant Colonel Custer then lead a force of 750 men to take over the tri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Expansion West After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US expended west there were a lot of Indian tribes that where moved or tried to fight and where killed of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is founded and a wagon is sent across the United States to take more 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11:59:09Z</dcterms:created>
  <dc:creator>Yarmouth Schools</dc:creator>
  <dc:description/>
  <dc:language>en-US</dc:language>
  <cp:lastModifiedBy>YHS Teacher</cp:lastModifiedBy>
  <dcterms:modified xsi:type="dcterms:W3CDTF">2009-06-12T01:00:23Z</dcterms:modified>
  <cp:revision>2</cp:revision>
  <dc:subject/>
  <dc:title>American West</dc:title>
</cp:coreProperties>
</file>